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A45B51F7-CE65-41EC-AA98-6E967C06F782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6EBF1C90-9BB3-4F8C-B81C-7B4ED30367B0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400-AB69-437A-AD9B-247071FB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8EC-C699-44CF-BA53-C0A2CB42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F5A-E2AA-4850-8B1F-23455836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E44-9C4D-454B-9F79-DB25A0EC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93E-BB4A-4BE2-AFB1-3C01183A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734-AE8A-4F03-B7C6-A1E6CDF4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B85-7F7C-49E7-91D0-18E34FE9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8DA-7537-4ED5-96DC-8DD026AF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3A0-DFD1-49E4-A0D1-20EFDB4F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84B-4DB6-4340-B084-A3BBD46A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0C9E-721E-4575-A14E-EBB0D83B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4A4-6D44-4589-9FF5-DC0C4F4B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567A-C6FC-49E0-9E2B-8B32D108DB8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Acondicionam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561636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50920" y="20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recipientes com mais de 100 litros, o funcionário encarregado da coleta deverá dispor de carrinho para o transporte até o veículo coletor. Alguns garis da coleta preferem “rolar” os latões de 200 li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6697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50920" y="206064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fícios e estabelecimentos de grande porte podem utilizar contenedores de maior capacidade providos de tampa e rodízios, desde que se conte com veículo coletor que possua dispositivo para basculá-los mecanic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250920" y="3645000"/>
            <a:ext cx="4249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cipientes sem retorno são colocados no veículo coletor juntamente com o lixo que contêm, sendo mais utilizados os sacos plásticos, com capacidade geralmente entre 20 e 100 litros, devendo apresentar espessura suficiente para não romper durante a co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"/>
          <p:cNvPicPr/>
          <p:nvPr/>
        </p:nvPicPr>
        <p:blipFill>
          <a:blip r:embed="rId3"/>
          <a:stretch/>
        </p:blipFill>
        <p:spPr>
          <a:xfrm>
            <a:off x="5580000" y="3284640"/>
            <a:ext cx="2222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250920" y="20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bora sejam ideais para o acondicionamento do ponto de vista sanitário e de agilização da coleta, 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acos plástic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presentam os seguintes aspectos desfavoráve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50920" y="3141720"/>
            <a:ext cx="424980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fragilidade em relação a materiais cortantes ou perfura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ço elevado que pode tornar inviável sua adoção pela população de baixa r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esmo assim, pela economia que trazem ao serviço, e aconselhável a sua adoção obrigatória nas áreas de comércio mais ativo e nas concentradoras de população de maior poder aquis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"/>
          <p:cNvPicPr/>
          <p:nvPr/>
        </p:nvPicPr>
        <p:blipFill>
          <a:blip r:embed="rId3"/>
          <a:stretch/>
        </p:blipFill>
        <p:spPr>
          <a:xfrm>
            <a:off x="5651640" y="2852640"/>
            <a:ext cx="2303280" cy="2195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"/>
          <p:cNvPicPr/>
          <p:nvPr/>
        </p:nvPicPr>
        <p:blipFill>
          <a:blip r:embed="rId4"/>
          <a:stretch/>
        </p:blipFill>
        <p:spPr>
          <a:xfrm>
            <a:off x="5292720" y="5157720"/>
            <a:ext cx="30481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214720"/>
            <a:ext cx="5616360" cy="3988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ipientes alternativos para lixo resid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250920" y="296532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e a boa disposição do administrador e a execução, pela população, dos procedimentos propostos para acondicionamento do lixo, há uma grande barreira: os recipientes para lixo são caros para a maioria da população urbana brasileira que é muito pobre! Há o risco de lixo virar lux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250920" y="499752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Nordeste, por exemplo, são comuns os recipientes para lixo feitos a partir de pneus usados de automóveis ou caminhões. A solução, se não é tecnicamente perfeita, é operacionalmente aceitável e ainda gera emprego para artesã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835280" y="2214720"/>
            <a:ext cx="5616360" cy="3988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ipientes alternativos para lixo resid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50920" y="29653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ontenedor de lixo é, portanto, confeccionado a partir de um só pneu usado. Seu tamanho e forma dependerão do tipo de pneu utilizado, bem como da seção cortada para se fazer o f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250920" y="42210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tal promover em sua cidade um programa para confecção de tais tipos de recipientes por parte de mão-de-obra não qualificada ou de menores carentes em áreas de baixa re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250920" y="54468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so traria vantagens para a Prefeitura, tornando mais fácil a coleta de lixo. Por outro lado, iria proporcionar os recursos necessários à subsistência de pessoas que estão precisando trabal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250920" y="1484280"/>
            <a:ext cx="8569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nde começam os problemas para o serviço de limpeza Urbana de sua cida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esta pergunta, certamente, poucas pessoas responderão: “Em nossas próprias residências”. Pois é exatamente esta a resposta corre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9" descr=""/>
          <p:cNvPicPr/>
          <p:nvPr/>
        </p:nvPicPr>
        <p:blipFill>
          <a:blip r:embed="rId4"/>
          <a:stretch/>
        </p:blipFill>
        <p:spPr>
          <a:xfrm>
            <a:off x="2843280" y="3141720"/>
            <a:ext cx="59148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1484280"/>
            <a:ext cx="85690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bora seja possível definir o tipo de acondicionamento tecnicamente mais adequado para cada situação, sua padronização é muito difícil porque tal atribuição é do usuá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iderando que “o ótimo é inimigo do bom”, os esforços da Municipalidade deverão ser concentrados no sentido de conscientizar a população para que procure acondicionar, da melhor maneira possível o lixo gerado em cada domicíl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4"/>
          <a:stretch/>
        </p:blipFill>
        <p:spPr>
          <a:xfrm>
            <a:off x="1979640" y="4149720"/>
            <a:ext cx="4896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 relação à adequação do acondicionamento à coleta, o recipiente apropriado para lixo deverá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971640" y="2349360"/>
            <a:ext cx="745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ender às condições sanitári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er feio, repulsivo ou desagradáv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r capacidade para conter o lixo gerado durante o intervalo entre uma coleta e out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mitir uma coleta rápida, aumentando com isso a produtividade do serviç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ibilitar uma manipulação segura por parte da equipe de col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69739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250920" y="2421000"/>
            <a:ext cx="856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itas vezes, existe a necessidade de se transportar o lixo gerado já de alguma maneira acondicionado até o local indicado para a sua remo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duas alternativas mais comumente utilizada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2124000" y="3716280"/>
            <a:ext cx="48974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3218400" y="3500280"/>
            <a:ext cx="1678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in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"/>
          <p:cNvPicPr/>
          <p:nvPr/>
        </p:nvPicPr>
        <p:blipFill>
          <a:blip r:embed="rId3"/>
          <a:stretch/>
        </p:blipFill>
        <p:spPr>
          <a:xfrm>
            <a:off x="7564320" y="3284640"/>
            <a:ext cx="1471680" cy="3456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4"/>
          <p:cNvSpPr/>
          <p:nvPr/>
        </p:nvSpPr>
        <p:spPr>
          <a:xfrm>
            <a:off x="250920" y="4221000"/>
            <a:ext cx="7200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do em situações especiais, como por exemplo em hospitais, o seu uso acarreta as seguintes 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entuada redução de peso e volume do lix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tamento sanitário excelente do lixo, desde que operado adequada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ibilidade de geração de vapor ou água quente para uso no próprio hos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3218400" y="3500280"/>
            <a:ext cx="1678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in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50920" y="4221000"/>
            <a:ext cx="720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incipais aspectos negativos, quanto ao seu emprego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oluição atmosférica que pode ocasion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xigência de manutenção especializ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sto do combustível util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"/>
          <p:cNvPicPr/>
          <p:nvPr/>
        </p:nvPicPr>
        <p:blipFill>
          <a:blip r:embed="rId3"/>
          <a:stretch/>
        </p:blipFill>
        <p:spPr>
          <a:xfrm>
            <a:off x="5076720" y="4653000"/>
            <a:ext cx="376740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38400" y="4292640"/>
            <a:ext cx="269532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actadores de l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250920" y="517680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modelos para prensagem vertical ou horizontal. O compactador é capaz de reduzir até quatro vezes o volume inicial. São empregados em grandes edifícios onde a geração de lixo é muito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50920" y="2060640"/>
            <a:ext cx="8569080" cy="44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escolher o tipo apropriado de acondicionamento? Bem, para isto entram em consideração os seguintes fa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s características do lix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 sua ger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 freqüência com que a coleta é fei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ipo de edific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ço do recip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qui será preciso fazer distinção entre: recipientes com retorno e sem re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rimeiros são os devolvidos pelo coletor após o esvazi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3"/>
          <a:stretch/>
        </p:blipFill>
        <p:spPr>
          <a:xfrm>
            <a:off x="4356000" y="3068640"/>
            <a:ext cx="44100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7:25Z</dcterms:modified>
  <cp:revision>208</cp:revision>
  <dc:subject/>
  <dc:title>Slide 1</dc:title>
</cp:coreProperties>
</file>